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B45-1E4C-4132-A3D5-06F505B1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9E8-5252-4F89-AEB4-B4DE0C3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7F0-AB6E-4E76-8232-D9249774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CD6-CC85-4C1A-A048-0E75A439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5E7-7180-4FF5-BF7E-39DE98C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906-C9FF-48F2-AA46-8E1ABB5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828-9D4A-4B23-A9C0-85A1BEF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057-EFF5-4424-A789-2BB14EC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44-59AD-448B-9CCA-E21C004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7F0-1C12-4A3D-B32C-FF6BF86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FD3-46F2-4930-91BE-75C0E9F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5A1-A742-4A31-ABA1-D02C715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E8F-0D30-4996-8615-D82391B1EE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огообразие и биоэкологические особенности беспозвоночных животных (моллюски, улитки), насекомые (жуки, бабочки, стрекозы)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5" descr="Image.jpeg"/>
          <p:cNvPicPr/>
          <p:nvPr/>
        </p:nvPicPr>
        <p:blipFill>
          <a:blip r:embed="rId2"/>
          <a:stretch/>
        </p:blipFill>
        <p:spPr>
          <a:xfrm>
            <a:off x="6443640" y="483876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3138_thumb[1].gif"/>
          <p:cNvPicPr/>
          <p:nvPr/>
        </p:nvPicPr>
        <p:blipFill>
          <a:blip r:embed="rId3"/>
          <a:stretch/>
        </p:blipFill>
        <p:spPr>
          <a:xfrm>
            <a:off x="0" y="0"/>
            <a:ext cx="1714680" cy="202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Бронзов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Содержимое 4" descr="800px-Cetonia_aurata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крыточелюс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рылат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овокрыл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есткокрыл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Разноядные жу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Scarabaeiform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карабеоид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ластинчатоус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Бронзов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4" descr="686px-Escaravellos_Beetles_GFDL.jpg"/>
          <p:cNvPicPr/>
          <p:nvPr/>
        </p:nvPicPr>
        <p:blipFill>
          <a:blip r:embed="rId2"/>
          <a:stretch/>
        </p:blipFill>
        <p:spPr>
          <a:xfrm>
            <a:off x="6000840" y="1500120"/>
            <a:ext cx="3143160" cy="3643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Лимон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3" descr="Pg-19-butterfly-ala_163211s.jpg"/>
          <p:cNvPicPr/>
          <p:nvPr/>
        </p:nvPicPr>
        <p:blipFill>
          <a:blip r:embed="rId1"/>
          <a:stretch/>
        </p:blipFill>
        <p:spPr>
          <a:xfrm>
            <a:off x="1638360" y="1859040"/>
            <a:ext cx="5867280" cy="4010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рылат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Amphiesmenopter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Чешуекрыл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Белянки (бабочки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Ро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Лимонницы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Ви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рушинниц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11.jpg"/>
          <p:cNvPicPr/>
          <p:nvPr/>
        </p:nvPicPr>
        <p:blipFill>
          <a:blip r:embed="rId1"/>
          <a:stretch/>
        </p:blipFill>
        <p:spPr>
          <a:xfrm>
            <a:off x="5948280" y="4357800"/>
            <a:ext cx="3195720" cy="2500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i.jpeg"/>
          <p:cNvPicPr/>
          <p:nvPr/>
        </p:nvPicPr>
        <p:blipFill>
          <a:blip r:embed="rId2"/>
          <a:stretch/>
        </p:blipFill>
        <p:spPr>
          <a:xfrm>
            <a:off x="6072120" y="85716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Жук-плавунец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Содержимое 4" descr="slide0007_image008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Особенности подбора насекомых в живые уголки разных возрастных групп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олотова Е.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накомим дошкольников с миром животных: из опыта работ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3" descr="Nymphalis.jpg"/>
          <p:cNvPicPr/>
          <p:nvPr/>
        </p:nvPicPr>
        <p:blipFill>
          <a:blip r:embed="rId1"/>
          <a:stretch/>
        </p:blipFill>
        <p:spPr>
          <a:xfrm>
            <a:off x="2214720" y="4003560"/>
            <a:ext cx="4859280" cy="2854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я младшая группа.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навать и знать название 1—2 насекомых: бабочка, жук. Знать, что они летают, у них есть крыль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яя группа.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меть называть некоторых насекомых (муравей, бабочка, жук, божья коровка), особенности их внешнего вида и движений (бабочка, жук имеют крылья; бабочка летает, муравей ползает, жук и летает, и ползает). Знакомить детей со звуками, характерными для насекомых (жук жужжит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ая групп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ть, что бабочка, жук, пчела, муравей, кузнечик, стрекоза — насекомые. Иметь представление о некоторых особенностях внешнего вида (форма тела, количество ног, наличие крыльев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равнивать насекомых по способу передвижения (пчела, муха, стрекоза — летают, кузнечик прыгает). Определять насекомых по издаваемым звукам и правильно называть (пчела, муха, жук — жуж­жат, кузнечик — стрекочет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ть некоторые особенности сезонной жизни, места обитания (муравьи, пчелы живут большими группами, сами себе строят жилищ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чела, муравей — полезные насекомые. Их нельзя уничтожать.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вести детей к пониманию некоторых защитных свойств насекомых (зеленый кузнечик на зеленой траве незаметен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ая к школе группа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личать по внешнему виду и правильно называть бабочек (капустница, крапивница, павлиний глаз); жуков (божья коровка-, жужелица). Сравнивая, находить различие во внешнем виде (у бабочки крылья мягкие, у жука сверху плотные, под ними мягкие и прозрачные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должать сравнивать насекомых по способу передвижения (бабочка, жук, пчела, муха, стрекоза, оса, шмель — летают, кузнечик прыгает. Жук, муха и муравей ползают). Называть характерные звуки насекомых (жужжит, стрекочет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 цикл развития бабочки (откладывает яйца на растениях, из них появляются гусеницы, из гусениц — куколки, а из куколок бабочки). На основе строения тела различных представителей формировать у детей обобщенное понятие — насекомые (у них шесть ног. Их еще называют шестиногие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едставлять себе, чем питаются насекомые (бабочка, пче­ла — соком цветов, муравьи — гусеницами, стрекоза — комарами. Майский жук ест листья деревьев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, что муравьи и пчелы живут большими семьями (муравьи в лесу строят муравейники, а пчелы в дуплах — гнезда, человек делает для них ульи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меть представление о полезности некоторых насекомых (человек приручил пчел — они дают мед; муравьи очищают лес, съедают вредных гусениц; божья коровка, жужелица поедают вредителей растений). Полезных насекомых надо оберегать, охра­ня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 некоторые формы защиты насекомых: покровитель­ственная окраска, химическая защита (например, едкие выделения божьей коровки и жужелицы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15.jpg"/>
          <p:cNvPicPr/>
          <p:nvPr/>
        </p:nvPicPr>
        <p:blipFill>
          <a:blip r:embed="rId1"/>
          <a:stretch/>
        </p:blipFill>
        <p:spPr>
          <a:xfrm>
            <a:off x="3214800" y="2428920"/>
            <a:ext cx="2857320" cy="3405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Беспозвоноч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Содержимое 5" descr="f_1526603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еспозвоночные животные  рекомендованные держать в уголках живой природы детских садов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ллюски- катушки, лужанки и фризы, которые целесообразно держать в аквариумах вместе с рыбк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Содержимое 3" descr="180px-Nautilus.jpg"/>
          <p:cNvPicPr/>
          <p:nvPr/>
        </p:nvPicPr>
        <p:blipFill>
          <a:blip r:embed="rId1"/>
          <a:stretch/>
        </p:blipFill>
        <p:spPr>
          <a:xfrm>
            <a:off x="1714680" y="3929040"/>
            <a:ext cx="507204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ли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3" descr="1220323346_0.jpg"/>
          <p:cNvPicPr/>
          <p:nvPr/>
        </p:nvPicPr>
        <p:blipFill>
          <a:blip r:embed="rId2"/>
          <a:stretch/>
        </p:blipFill>
        <p:spPr>
          <a:xfrm>
            <a:off x="1643040" y="1714680"/>
            <a:ext cx="542916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дни из самых древних представителей животного мира. И одновременно самыми многочисленными по видовому разнообразию являются насекомы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4" descr="6b.jpg"/>
          <p:cNvPicPr/>
          <p:nvPr/>
        </p:nvPicPr>
        <p:blipFill>
          <a:blip r:embed="rId1"/>
          <a:stretch/>
        </p:blipFill>
        <p:spPr>
          <a:xfrm>
            <a:off x="1357200" y="3929040"/>
            <a:ext cx="673128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Кто такие насекомые? И почему они так называются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Это всем нам хорошо известные бабочки, жуки 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стрекозы, кузнечики, пчёлы, комары, мухи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тараканы и многие другие. Тело насекомых состоит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из трёх заметно разделённых частей: голова, грудь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брюшко. Всё части тела как бы насечены на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сегменты, отсюда и название- насекомых. Все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насекомые имеют шесть ножек, одну или две пары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перепончатых крылышек и два усика (антенны)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размещённые на голове и служащие органами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чувств - обоняние и осязание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3" descr="843916.jpg"/>
          <p:cNvPicPr/>
          <p:nvPr/>
        </p:nvPicPr>
        <p:blipFill>
          <a:blip r:embed="rId1"/>
          <a:stretch/>
        </p:blipFill>
        <p:spPr>
          <a:xfrm>
            <a:off x="757224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ожья коров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Содержимое 3" descr="30.jpg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45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крыточелюс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рылат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овокрыл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есткокрыл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Разноядные жу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укуйиформ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укуйоид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Божьи коров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3" descr="lbird2.gif"/>
          <p:cNvPicPr/>
          <p:nvPr/>
        </p:nvPicPr>
        <p:blipFill>
          <a:blip r:embed="rId2"/>
          <a:stretch/>
        </p:blipFill>
        <p:spPr>
          <a:xfrm>
            <a:off x="6215040" y="1857240"/>
            <a:ext cx="250020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омик для Божьей коров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одержимое 14" descr="lady_tower2.jpg"/>
          <p:cNvPicPr/>
          <p:nvPr/>
        </p:nvPicPr>
        <p:blipFill>
          <a:blip r:embed="rId1"/>
          <a:stretch/>
        </p:blipFill>
        <p:spPr>
          <a:xfrm>
            <a:off x="428760" y="157176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ladyb_nestbox_l.jpg"/>
          <p:cNvPicPr/>
          <p:nvPr/>
        </p:nvPicPr>
        <p:blipFill>
          <a:blip r:embed="rId2"/>
          <a:stretch/>
        </p:blipFill>
        <p:spPr>
          <a:xfrm>
            <a:off x="2786040" y="1571760"/>
            <a:ext cx="2786040" cy="3717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lbird_fd.jpg"/>
          <p:cNvPicPr/>
          <p:nvPr/>
        </p:nvPicPr>
        <p:blipFill>
          <a:blip r:embed="rId3"/>
          <a:stretch/>
        </p:blipFill>
        <p:spPr>
          <a:xfrm>
            <a:off x="5500800" y="1571760"/>
            <a:ext cx="2476440" cy="37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1:45:29Z</dcterms:created>
  <dc:creator>Женечка ))))</dc:creator>
  <dc:description/>
  <dc:language>en-US</dc:language>
  <cp:lastModifiedBy>user</cp:lastModifiedBy>
  <dcterms:modified xsi:type="dcterms:W3CDTF">2010-06-06T09:00:29Z</dcterms:modified>
  <cp:revision>24</cp:revision>
  <dc:subject/>
  <dc:title>Многообразие и биоэкологические особенности беспозвоночных животных (моллюски, улитки), насекомые (жуки, бабочки, стрекозы).</dc:title>
</cp:coreProperties>
</file>